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42A7-97FB-446A-A7AC-25132B7622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E417-A541-49C2-A180-D39F715F78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827C-2591-4691-B21E-C063D796A6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CC54-9614-4140-B568-B69FB709362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B986-4CA8-4046-BCD4-E2B7795E58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1E9B-3AF5-4190-82FD-39EBBD6C7A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1B61-53E5-4240-A931-2A0D81D83E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A899-A3D6-41A6-AEF0-F522376418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7317-1B09-425E-9790-45E987475F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83F0-A931-4ED0-B19F-C8442E9E9D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8F4F-867E-48B8-B1C0-6D5D4AB726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8E5F-5816-4D4D-AFCB-B1C84363729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BA30-633C-43EC-9B4C-9ABCC7458F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091C-2BDF-4ADF-8568-F8D32D7F694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A381-4253-4AA5-BAFA-D75D48018C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7C72-243B-4C42-B3F2-AC81861072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E12C-F21A-431C-B715-BE30B6F6D2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C94C-464B-4031-B788-8CE2D34FFF9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81AE-86C0-4ACC-9C9C-958C9507F9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978F-EAD3-49D1-B090-D3AB7D046E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0C2C-0EB7-4769-A28C-8C654C71D8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13A8-7473-48AB-8411-C22492266EB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DE08-D8F5-414C-88FB-37114F09DE1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16C4-63BA-4D67-8DC2-354E05F3C3B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9201-704A-49D0-8A9C-181392D5F5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3B89-54F2-4457-879F-8E386A0D288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D99B-D4F5-41AF-83EF-5C91D357218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5425-D3A7-463F-8E9F-57AC692322B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43C7-E89E-473F-90E3-86282102B2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A856-A8EE-48A7-A0DE-A1370C2A6E4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6945-E999-4EB9-B0A7-B27D103FFB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F87D-AEED-4394-9A71-48BCF961AEF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BDC04-ACFD-4752-83D0-4E8A26797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6E19-E741-4F51-AF0F-309F1C3C7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7326-9B01-44A6-9BC1-66FC0075D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2433C-F8A1-4EBE-8EC2-310EC68B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90462-7E3A-4D7E-AB86-238DCFB24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0F97A-DE2E-41F8-8208-7C272E875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CF100-2DF3-418F-B160-C379DD466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EF191-503C-440C-BCE9-635D1274F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7FEF4-4814-42D1-8672-9A80D5170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1DAD5-9A9E-4B74-9E84-11A51017A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B2817-1498-4118-A1FB-26C2024EC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64EA-3319-413F-944E-B44A5BD4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2DB22-50DF-4484-9796-8EA05245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0560-31AF-4D3E-AC59-9A9CBC6B7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54692-AC95-48CC-85B2-D3AFF3602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11B90-2014-420F-A3D1-342D6084F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83BC9-FDD4-4A86-B017-AC276800F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8B5CF-4415-4D1C-9AFF-9A054D90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D8F9-3D74-428D-8026-88DEFA3F5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740A-8C46-4DD5-815F-F73B1B9BA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5354-5A5B-4754-9786-3DAD0A70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7E0B-D688-4601-9AE7-40C8778C9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0A4D-9BF1-4D4C-822A-981AC017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57DB-0389-4E04-96B8-E91FB3880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6900-ACA3-49A9-856B-A1C0922D9C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04BF-F271-4485-A107-E93A976936E3}"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JOHN T. KEMP</a:t>
            </a:r>
            <a:br>
              <a:rPr sz="4000"/>
            </a:br>
            <a:r>
              <a:rPr b="1" lang="en-US" sz="4000" spc="-1" strike="noStrike">
                <a:solidFill>
                  <a:srgbClr val="ffffcc"/>
                </a:solidFill>
                <a:latin typeface="Arial"/>
              </a:rPr>
              <a:t>V.</a:t>
            </a:r>
            <a:br>
              <a:rPr sz="4000"/>
            </a:br>
            <a:r>
              <a:rPr b="1" lang="en-US" sz="4000" spc="-1" strike="noStrike">
                <a:solidFill>
                  <a:srgbClr val="ffffcc"/>
                </a:solidFill>
                <a:latin typeface="Arial"/>
              </a:rPr>
              <a:t>COUNTRYWIDE HOME LOANS, INC.</a:t>
            </a:r>
            <a:endParaRPr b="0" lang="en-US" sz="4000" spc="-1" strike="noStrike">
              <a:solidFill>
                <a:srgbClr val="dbbd71"/>
              </a:solidFill>
              <a:latin typeface="Arial"/>
            </a:endParaRPr>
          </a:p>
        </p:txBody>
      </p:sp>
      <p:pic>
        <p:nvPicPr>
          <p:cNvPr id="160" name="Picture 3" descr="newbanner"/>
          <p:cNvPicPr/>
          <p:nvPr/>
        </p:nvPicPr>
        <p:blipFill>
          <a:blip r:embed="rId1"/>
          <a:stretch/>
        </p:blipFill>
        <p:spPr>
          <a:xfrm>
            <a:off x="533520" y="533520"/>
            <a:ext cx="8076960" cy="2279520"/>
          </a:xfrm>
          <a:prstGeom prst="rect">
            <a:avLst/>
          </a:prstGeom>
          <a:ln w="25560">
            <a:solidFill>
              <a:srgbClr val="ffffff"/>
            </a:solidFill>
            <a:miter/>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anim calcmode="lin" valueType="num">
                                      <p:cBhvr additive="repl">
                                        <p:cTn id="8" dur="1000" fill="hold"/>
                                        <p:tgtEl>
                                          <p:spTgt spid="160"/>
                                        </p:tgtEl>
                                        <p:attrNameLst>
                                          <p:attrName>r</p:attrName>
                                        </p:attrNameLst>
                                      </p:cBhvr>
                                      <p:tavLst>
                                        <p:tav tm="0">
                                          <p:val>
                                            <p:strVal val="720"/>
                                          </p:val>
                                        </p:tav>
                                        <p:tav tm="100000">
                                          <p:val>
                                            <p:strVal val="0"/>
                                          </p:val>
                                        </p:tav>
                                      </p:tavLst>
                                    </p:anim>
                                    <p:anim calcmode="lin" valueType="num">
                                      <p:cBhvr additive="repl">
                                        <p:cTn id="9" dur="1000" fill="hold"/>
                                        <p:tgtEl>
                                          <p:spTgt spid="160"/>
                                        </p:tgtEl>
                                        <p:attrNameLst>
                                          <p:attrName>ppt_h</p:attrName>
                                        </p:attrNameLst>
                                      </p:cBhvr>
                                      <p:tavLst>
                                        <p:tav tm="0">
                                          <p:val>
                                            <p:fltVal val="0"/>
                                          </p:val>
                                        </p:tav>
                                        <p:tav tm="100000">
                                          <p:val>
                                            <p:strVal val="#ppt_h"/>
                                          </p:val>
                                        </p:tav>
                                      </p:tavLst>
                                    </p:anim>
                                    <p:anim calcmode="lin" valueType="num">
                                      <p:cBhvr additive="repl">
                                        <p:cTn id="10" dur="1000" fill="hold"/>
                                        <p:tgtEl>
                                          <p:spTgt spid="160"/>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59"/>
                                        </p:tgtEl>
                                        <p:attrNameLst>
                                          <p:attrName>style.visibility</p:attrName>
                                        </p:attrNameLst>
                                      </p:cBhvr>
                                      <p:to>
                                        <p:strVal val="visible"/>
                                      </p:to>
                                    </p:set>
                                    <p:anim calcmode="lin" valueType="num">
                                      <p:cBhvr additive="repl">
                                        <p:cTn id="14" dur="2000" fill="hold"/>
                                        <p:tgtEl>
                                          <p:spTgt spid="159"/>
                                        </p:tgtEl>
                                        <p:attrNameLst>
                                          <p:attrName>ppt_w</p:attrName>
                                        </p:attrNameLst>
                                      </p:cBhvr>
                                      <p:tavLst>
                                        <p:tav tm="0">
                                          <p:val>
                                            <p:fltVal val="0"/>
                                          </p:val>
                                        </p:tav>
                                        <p:tav tm="100000">
                                          <p:val>
                                            <p:strVal val="#ppt_w"/>
                                          </p:val>
                                        </p:tav>
                                      </p:tavLst>
                                    </p:anim>
                                    <p:anim calcmode="lin" valueType="num">
                                      <p:cBhvr additive="repl">
                                        <p:cTn id="15" dur="2000" fill="hold"/>
                                        <p:tgtEl>
                                          <p:spTgt spid="159"/>
                                        </p:tgtEl>
                                        <p:attrNameLst>
                                          <p:attrName>ppt_h</p:attrName>
                                        </p:attrNameLst>
                                      </p:cBhvr>
                                      <p:tavLst>
                                        <p:tav tm="0">
                                          <p:val>
                                            <p:fltVal val="0"/>
                                          </p:val>
                                        </p:tav>
                                        <p:tav tm="100000">
                                          <p:val>
                                            <p:strVal val="#ppt_h"/>
                                          </p:val>
                                        </p:tav>
                                      </p:tavLst>
                                    </p:anim>
                                    <p:animEffect filter="fade" transition="in">
                                      <p:cBhvr additive="repl">
                                        <p:cTn id="16"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85800" y="1371600"/>
            <a:ext cx="8001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Pursuant to the Agreement, the depositor was directed to transfer the Trust Fund, consisting of specified mortgage loans and their proceeds, including the debtor’s loan, to the Bank of New York as Trustee, in return for certificates referred to as Asset-Backed Certificates, Series 2006-8.</a:t>
            </a:r>
            <a:endParaRPr b="0" lang="en-US" sz="3200" spc="-1" strike="noStrike">
              <a:solidFill>
                <a:srgbClr val="ffffff"/>
              </a:solidFill>
              <a:latin typeface="Tahoma"/>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685800" y="1981080"/>
            <a:ext cx="8001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sellers sold, transferred or assigned to the depositor “all the right, title and interest of such Seller in and to the applicable Initial Mortgage Loans, including all interest and principal received and receivable by such Seller.”</a:t>
            </a:r>
            <a:endParaRPr b="0" lang="en-US" sz="3200" spc="-1" strike="noStrike">
              <a:solidFill>
                <a:srgbClr val="ffffff"/>
              </a:solidFill>
              <a:latin typeface="Tahoma"/>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5800" y="2057400"/>
            <a:ext cx="8001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In turn, the depositor immediately transferred “all right title and interest in the Initial Mortgage Loans,” including the debtor’s loan, to the Trustee, for the benefit of the certificate holders.</a:t>
            </a:r>
            <a:endParaRPr b="0" lang="en-US" sz="3200" spc="-1" strike="noStrike">
              <a:solidFill>
                <a:srgbClr val="ffffff"/>
              </a:solidFill>
              <a:latin typeface="Tahoma"/>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685800" y="685800"/>
            <a:ext cx="800100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Agreement expressly provided that in connection with the transfer of each loan, the depositor was to deliver “the original Mortgage Note, endorsed by manual or facsimile signature in blank in the following form:  “Pay to the order of ________________ without recourse’, with all intervening endorsements that show a complete chain of endorsement from the originator to the Person endorsing the Mortgage Note.”</a:t>
            </a:r>
            <a:endParaRPr b="0" lang="en-US" sz="3200" spc="-1" strike="noStrike">
              <a:solidFill>
                <a:srgbClr val="ffffff"/>
              </a:solidFill>
              <a:latin typeface="Tahoma"/>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5800" y="2133720"/>
            <a:ext cx="8001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ost significantly for purposes of this discussion, the note in question was never indorsed in blank or delivered to the Bank of New York, as required by the Pooling and Servicing Agreement.</a:t>
            </a:r>
            <a:endParaRPr b="0" lang="en-US" sz="3200" spc="-1" strike="noStrike">
              <a:solidFill>
                <a:srgbClr val="ffffff"/>
              </a:solidFill>
              <a:latin typeface="Tahoma"/>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85800" y="1905120"/>
            <a:ext cx="8001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On March 14, 2007, MERS, as nominee for America’s Wholesale Lender, assigned the debtor’s mortgage to the Bank of New York as Trustee for the Certificateholders CWABs, Inc. Asset-Backed Certificates, Series 2006-8.</a:t>
            </a:r>
            <a:endParaRPr b="0" lang="en-US" sz="3200" spc="-1" strike="noStrike">
              <a:solidFill>
                <a:srgbClr val="ffffff"/>
              </a:solidFill>
              <a:latin typeface="Tahoma"/>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1905120"/>
            <a:ext cx="8001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assignment purported to assign “a certain mortgage dated May 31, 2006 … together with the Bond, Note or other obligation described in the Mortgage, and the money due and to become         due thereon, with the interest.”</a:t>
            </a:r>
            <a:endParaRPr b="0" lang="en-US" sz="3200" spc="-1" strike="noStrike">
              <a:solidFill>
                <a:srgbClr val="ffffff"/>
              </a:solidFill>
              <a:latin typeface="Tahoma"/>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685800" y="914400"/>
            <a:ext cx="80010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assignment provided further that the “Assignor covenants that there is now due and owing upon the Mortgage and the Bond, Note or other obligation secured thereby, the sum of $167,199.92 Dollars principal with interest thereon to be computed at the rate of 9.530 percent per year.”  The assignment was recorded with the County Clerk on March 24, 2008.</a:t>
            </a:r>
            <a:endParaRPr b="0" lang="en-US" sz="3200" spc="-1" strike="noStrike">
              <a:solidFill>
                <a:srgbClr val="ffffff"/>
              </a:solidFill>
              <a:latin typeface="Tahoma"/>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THE TRIAL</a:t>
            </a:r>
            <a:endParaRPr b="0" lang="en-US" sz="5400" spc="-1" strike="noStrike">
              <a:solidFill>
                <a:srgbClr val="dbbd71"/>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685800" y="1143000"/>
            <a:ext cx="8001000" cy="464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t the trial of this matter, Countrywide produced a new undated “Allonge to Promissory Note”, which directed the debtor to “Pay to the Order of Bank        of New York, as Trustee for the Certificateholders CWABs, Inc., Asset-Backed Certificates, Series 6006-8.*</a:t>
            </a:r>
            <a:endParaRPr b="0" lang="en-US" sz="32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he allonge misidentifies the Asset-Backed Certificates as “Series 6008-8” rather than “Series 2006-8.”</a:t>
            </a:r>
            <a:endParaRPr b="0" lang="en-US" sz="2000" spc="-1" strike="noStrike">
              <a:solidFill>
                <a:srgbClr val="ffffff"/>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BACKGROUND</a:t>
            </a:r>
            <a:endParaRPr b="0" lang="en-US" sz="5400" spc="-1" strike="noStrike">
              <a:solidFill>
                <a:srgbClr val="dbbd71"/>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685800" y="2209680"/>
            <a:ext cx="8001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new allonge was signed by       Sharon Mason, Vice President of Countrywide Home Loans, Inc.,             in the Bankruptcy Risk Litigation Management Department.</a:t>
            </a:r>
            <a:endParaRPr b="0" lang="en-US" sz="3200" spc="-1" strike="noStrike">
              <a:solidFill>
                <a:srgbClr val="ffffff"/>
              </a:solidFill>
              <a:latin typeface="Tahoma"/>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685800" y="1143000"/>
            <a:ext cx="8001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Linda DeMartini, a supervisor and operational team leader for the Litigation Management Department       for BAC Home Loans Servicing L.P. (“BAC Servicing”), testified that              </a:t>
            </a:r>
            <a:r>
              <a:rPr b="1" lang="en-US" sz="3200" spc="-1" strike="noStrike">
                <a:solidFill>
                  <a:srgbClr val="ff3300"/>
                </a:solidFill>
                <a:latin typeface="Arial"/>
              </a:rPr>
              <a:t>the new allonge was prepared in anticipation of this litigation, and          that it was signed several weeks        before the trial by Sharon Mason.</a:t>
            </a:r>
            <a:endParaRPr b="0" lang="en-US" sz="3200" spc="-1" strike="noStrike">
              <a:solidFill>
                <a:srgbClr val="ffffff"/>
              </a:solidFill>
              <a:latin typeface="Tahoma"/>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85800" y="1523880"/>
            <a:ext cx="8001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s to the location of the note, Ms. DeMartini testified that to her knowledge, </a:t>
            </a:r>
            <a:r>
              <a:rPr b="1" lang="en-US" sz="3200" spc="-1" strike="noStrike">
                <a:solidFill>
                  <a:srgbClr val="ff3300"/>
                </a:solidFill>
                <a:latin typeface="Arial"/>
              </a:rPr>
              <a:t>the original note never left the possession of Countrywide</a:t>
            </a:r>
            <a:r>
              <a:rPr b="1" lang="en-US" sz="3200" spc="-1" strike="noStrike">
                <a:solidFill>
                  <a:srgbClr val="ffffcc"/>
                </a:solidFill>
                <a:latin typeface="Arial"/>
              </a:rPr>
              <a:t>,          and that the original note appears to have been transferred to Countrywide’s foreclosure unit, as evidenced by internal FedEx tracking numbers.</a:t>
            </a:r>
            <a:endParaRPr b="0" lang="en-US" sz="3200" spc="-1" strike="noStrike">
              <a:solidFill>
                <a:srgbClr val="ffffff"/>
              </a:solidFill>
              <a:latin typeface="Tahoma"/>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685800" y="1828800"/>
            <a:ext cx="8001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he also confirmed that the new allonge had not been attached or otherwise affixed to the note.  She testified that         </a:t>
            </a:r>
            <a:r>
              <a:rPr b="1" lang="en-US" sz="3200" spc="-1" strike="noStrike">
                <a:solidFill>
                  <a:srgbClr val="ff3300"/>
                </a:solidFill>
                <a:latin typeface="Arial"/>
              </a:rPr>
              <a:t>it was customary for Countrywide         to maintain that the new allonge             had not been attached or                  otherwise affixed to the note</a:t>
            </a:r>
            <a:r>
              <a:rPr b="1" lang="en-US" sz="3200" spc="-1" strike="noStrike">
                <a:solidFill>
                  <a:srgbClr val="ffffcc"/>
                </a:solidFill>
                <a:latin typeface="Arial"/>
              </a:rPr>
              <a:t>.</a:t>
            </a:r>
            <a:endParaRPr b="0" lang="en-US" sz="3200" spc="-1" strike="noStrike">
              <a:solidFill>
                <a:srgbClr val="ffffff"/>
              </a:solidFill>
              <a:latin typeface="Tahoma"/>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5800" y="2362320"/>
            <a:ext cx="8001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he testified further that                          </a:t>
            </a:r>
            <a:r>
              <a:rPr b="1" lang="en-US" sz="3200" spc="-1" strike="noStrike">
                <a:solidFill>
                  <a:srgbClr val="ff3300"/>
                </a:solidFill>
                <a:latin typeface="Arial"/>
              </a:rPr>
              <a:t>it was customary for Countrywide to maintain possession of the original note and related loan documents</a:t>
            </a:r>
            <a:r>
              <a:rPr b="1" lang="en-US" sz="3200" spc="-1" strike="noStrike">
                <a:solidFill>
                  <a:srgbClr val="ffffcc"/>
                </a:solidFill>
                <a:latin typeface="Arial"/>
              </a:rPr>
              <a:t>. </a:t>
            </a:r>
            <a:endParaRPr b="0" lang="en-US" sz="3200" spc="-1" strike="noStrike">
              <a:solidFill>
                <a:srgbClr val="ffffff"/>
              </a:solidFill>
              <a:latin typeface="Tahoma"/>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685800" y="1752480"/>
            <a:ext cx="8001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In a supplemental submission dated September 9, 2009, the defendant asserted that “the Defendant/Secured Creditor located the original Note.          The original Note with allonge and Pooling and Servicing Agreement            are available for inspection.” </a:t>
            </a:r>
            <a:endParaRPr b="0" lang="en-US" sz="3200" spc="-1" strike="noStrike">
              <a:solidFill>
                <a:srgbClr val="ffffff"/>
              </a:solidFill>
              <a:latin typeface="Tahoma"/>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609480" y="685800"/>
            <a:ext cx="800100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In a bizarre twist, in the same September 9, 2009 submission, Countrywide produced a copy of a “Lost Note Certification,” dated February 1, 2007, which indicated that the original note had been delivered to the lender on the origination date and thereafter “misplaced, lost or destroyed, and after a thorough and diligent search, no one has been able to locate the original Note.”</a:t>
            </a:r>
            <a:endParaRPr b="0" lang="en-US" sz="3200" spc="-1" strike="noStrike">
              <a:solidFill>
                <a:srgbClr val="ffffff"/>
              </a:solidFill>
              <a:latin typeface="Tahoma"/>
            </a:endParaRPr>
          </a:p>
        </p:txBody>
      </p:sp>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609480" y="2362320"/>
            <a:ext cx="8001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defendant asserted for the first time that the “whereabouts of the Note     could not be determined” at the time that the proof of claim was filed.</a:t>
            </a:r>
            <a:endParaRPr b="0" lang="en-US" sz="3200" spc="-1" strike="noStrike">
              <a:solidFill>
                <a:srgbClr val="ffffff"/>
              </a:solidFill>
              <a:latin typeface="Tahoma"/>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09480" y="685800"/>
            <a:ext cx="800100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s a result, Countrywide claimed that it was unable to affix the allonge to the note until after the original note had been rediscovered.  At the next hearing on September 24, 2009, counsel was not able to explain the inconsistencies between the lost note certification,         Ms. DeMartini’s testimony,                    and the “rediscovery” of the note,         and asked that the lost note  certification be disregarded.</a:t>
            </a:r>
            <a:endParaRPr b="0" lang="en-US" sz="3200" spc="-1" strike="noStrike">
              <a:solidFill>
                <a:srgbClr val="ffffff"/>
              </a:solidFill>
              <a:latin typeface="Tahoma"/>
            </a:endParaRPr>
          </a:p>
        </p:txBody>
      </p:sp>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990360"/>
            <a:ext cx="84582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CONCLUSION</a:t>
            </a:r>
            <a:endParaRPr b="0" lang="en-US" sz="5400" spc="-1" strike="noStrike">
              <a:solidFill>
                <a:srgbClr val="dbbd71"/>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85800" y="1523880"/>
            <a:ext cx="8001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On May 9, 2008, the debtor, John T. Kemp filed a voluntary petition for relief under Chapter 13 of the Bankruptcy Code.  The debtor scheduled an ownership interest in several properties, including one located at 1316 Kings Highway, Haddon Heights, New Jersey, the property at issue in this proceeding.</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685800" y="1905120"/>
            <a:ext cx="8001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Because the claim filed by “Countrywide Home Loans, Inc., servicer for Bank of New York”        cannot be enforced under applicable state law, the claim must be           disallowed under 11 U.S.C. § 502(b)(1). </a:t>
            </a:r>
            <a:endParaRPr b="0" lang="en-US" sz="3200" spc="-1" strike="noStrike">
              <a:solidFill>
                <a:srgbClr val="ffffff"/>
              </a:solidFill>
              <a:latin typeface="Tahoma"/>
            </a:endParaRPr>
          </a:p>
        </p:txBody>
      </p:sp>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80880" y="685800"/>
            <a:ext cx="8382240" cy="536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ax Gardner’s</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ankruptcy Boot Camps</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PO Box 177</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asar NC 28020</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704.418.2628 (Max Direct)</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www.maxbankruptcybootcamp.com</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www.maxgardnerlaw.com</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maxgardner@maxgardner.com</a:t>
            </a:r>
            <a:endParaRPr b="0" lang="en-US" sz="3200" spc="-1" strike="noStrike">
              <a:solidFill>
                <a:srgbClr val="ffffff"/>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685800" y="1828800"/>
            <a:ext cx="8001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chedule D of the debtor’s petition, listing creditors holding secured claims, listed Countrywide Home Loans as  both the first and second mortgagee, with claims of $167,000 and $42,000, respectively, against the                          1316 Kings Highway property.</a:t>
            </a:r>
            <a:endParaRPr b="0" lang="en-US" sz="3200" spc="-1" strike="noStrike">
              <a:solidFill>
                <a:srgbClr val="ffffff"/>
              </a:solidFill>
              <a:latin typeface="Tahoma"/>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685800" y="1981080"/>
            <a:ext cx="8001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debtor’s Chapter 13 plan proposed to make payments over 60 months to satisfy priority claims and to cure arrearages on three separate mortgages, including the two Countrywide mortgages.</a:t>
            </a:r>
            <a:endParaRPr b="0" lang="en-US" sz="3200" spc="-1" strike="noStrike">
              <a:solidFill>
                <a:srgbClr val="ffffff"/>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5800" y="1219320"/>
            <a:ext cx="8001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On June 11, 2008, the defendant herein, Countrywide Home Loans, Inc. (hereinafter “Countrywide”), identifying itself as the servicer for the Bank of New York, filed a secured proof of claim in the amount of $211,202.41, including $40,569.69 in arrears, noting the property at 1316 Kings Highway as the collateral for the claim.</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685800" y="1447920"/>
            <a:ext cx="8001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debtor, through his attorney,            Boot Camp graduate Bruce H. Levitt, filed an adversary complaint on  October 16, 2008 against Countrywide, seeking to expunge its proof of claim.  The debtor asserted that the              Bank of New York cannot enforce          the underlying obligation.</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752480"/>
            <a:ext cx="8001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hortly after the execution by               the debtor of the note and mortgage,  the instruments executed by                  the debtor were apparently pooled       with other similar instruments            and sold as a package to the               Bank of New York as Trustee.</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685800" y="990720"/>
            <a:ext cx="80010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On June 28, 2006, a Pooling and Servicing Agreement (“PSA” or “the Agreement”) was executed by CWABS, Inc. as the depositor, with Countywide Home Loans., Park Monaco, Inc. and Park Sienna, LLC as the sellers, Countrywide Home Loans Servicing LP</a:t>
            </a:r>
            <a:r>
              <a:rPr b="0" lang="en-US" sz="3200" spc="-1" strike="noStrike">
                <a:solidFill>
                  <a:srgbClr val="ffffcc"/>
                </a:solidFill>
                <a:latin typeface="Arial"/>
              </a:rPr>
              <a:t> </a:t>
            </a:r>
            <a:r>
              <a:rPr b="1" lang="en-US" sz="3200" spc="-1" strike="noStrike">
                <a:solidFill>
                  <a:srgbClr val="ffffcc"/>
                </a:solidFill>
                <a:latin typeface="Arial"/>
              </a:rPr>
              <a:t>(“Countrywide Servicing”)                      as the master servicer, and the              Bank of New York as the Trustee.</a:t>
            </a:r>
            <a:endParaRPr b="0" lang="en-US" sz="3200" spc="-1" strike="noStrike">
              <a:solidFill>
                <a:srgbClr val="ffffff"/>
              </a:solidFill>
              <a:latin typeface="Tahoma"/>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7:38:15Z</dcterms:created>
  <dc:creator> </dc:creator>
  <dc:description/>
  <dc:language>en-US</dc:language>
  <cp:lastModifiedBy>user1</cp:lastModifiedBy>
  <dcterms:modified xsi:type="dcterms:W3CDTF">2011-01-27T16:33:19Z</dcterms:modified>
  <cp:revision>38</cp:revision>
  <dc:subject/>
  <dc:title>EXCERPTS FROM DEPOSITION OF                    BETH ANN COTTRELL</dc:title>
</cp:coreProperties>
</file>